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jpeg" ContentType="image/jpeg"/>
  <Override PartName="/ppt/media/image4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3.gif" ContentType="image/gif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6CC2-6ED2-4E43-8377-FE2045CB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0FE9-0883-4055-A53D-4782E28A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8DC5-EC41-46B4-BEDB-C1160C60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2063-13AD-4C81-81FA-6A5EEFFF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E211-83E5-4CE7-A51C-D27558C4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EACF-6E11-4514-BECB-2B59BA38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DDA-722D-4238-A578-E7023465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15B-87C4-47A9-9654-445C1694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6062-D5A6-4583-B093-75AC4053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3B16-0D19-4E19-8300-4D508834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FAB-918D-4427-981A-BBBFB28F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6B5F-E322-439B-A7A0-D1077C0F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0CC5-0A2D-4C5D-9D2C-498D3F63A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825800" cy="4105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111640" y="2852640"/>
            <a:ext cx="4032360" cy="3745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50920" y="333360"/>
            <a:ext cx="87138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ontynenty i Oceany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7705800" cy="57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 Atlantyc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940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cean Atlantycki (Atlantyk) – drugi pod względem wielkości ocean na Ziemi pokrywający około jednej piątej jej powierzchni. Nazwa wywodzi się z mitologii greckiej i oznacza "Morze Atlasa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140360" y="1557360"/>
            <a:ext cx="41749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 Indyj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228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cean Indyjski (Indyk ) – trzeci pod względem wielkości zbiornik wodny na świecie, zajmujący około 20% powierzchni Wszechoceanu. Oficjalna polska nazwa tego oceanu, zatwierdzona przez Komisję Standaryzacji Nazw Geograficznych brzmi Ocean Indyjsk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95640" y="1413000"/>
            <a:ext cx="4608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 Arktycz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5116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cean Arktyczny (także: Morze Arktyczne, Morze Lodowate, Ocean Lodowaty Północny) – najmniejszy i najpłytszy, a być może również najmłodszy ocean na Ziemi, uznawany dawniej za część Oceanu Atlantycki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45943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 Południow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5116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cean Południowy (także: Południowy Ocean Lodowaty, Ocean Antarktyczny) – ocean rozciągający się od wybrzeża Antarktydy do równoleżnika 60°S, wzdłuż którego łączy się z oceanami: Spokojnym, Indyjskim i Atlantycki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4895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 Spokoj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484280"/>
            <a:ext cx="418608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cean Spokojny, Pacyfik, Ocean Wielki – największy, najgłębszy i najstarszy, obok Atlantyku, na świecie zbiornik wodny. Z powierzchnią równą 178,7 mln km² zajmuje jedną trzecią całej Ziemi. Oficjalna polska nazwa tego oceanu, zatwierdzona przez Komisję Standaryzacji Nazw Geograficznych brzmi Ocean Spokojn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424944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Wszechoc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988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szechocean (Ocean światowy) – ogólne określenie całości wód morskich na powierzchni Ziemi, tj. oceanów i wchodzących w ich skład mórz; główna część hydrosfe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4105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Kontyne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8000" y="1125360"/>
            <a:ext cx="8928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fry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253044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fryka – drugi pod względem wielkości kontynent na Ziemi. Ma 30,37 mln km² powierzchni, czyli ponad 20,3% ogólnej powierzchni lądowej naszego globu. Przechodzi przez niego południk 0°, obydwa zwrotniki i równi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lik:Africa satellite plane.jpg"/>
          <p:cNvPicPr/>
          <p:nvPr/>
        </p:nvPicPr>
        <p:blipFill>
          <a:blip r:embed="rId2"/>
          <a:stretch/>
        </p:blipFill>
        <p:spPr>
          <a:xfrm>
            <a:off x="2916360" y="1989000"/>
            <a:ext cx="3787560" cy="4464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Plik:Ébreszt&amp;odblac;.jpg"/>
          <p:cNvPicPr/>
          <p:nvPr/>
        </p:nvPicPr>
        <p:blipFill>
          <a:blip r:embed="rId3"/>
          <a:stretch/>
        </p:blipFill>
        <p:spPr>
          <a:xfrm>
            <a:off x="6877080" y="2276640"/>
            <a:ext cx="2160720" cy="180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Plik:SudanRegionGambia.jpg"/>
          <p:cNvPicPr/>
          <p:nvPr/>
        </p:nvPicPr>
        <p:blipFill>
          <a:blip r:embed="rId4"/>
          <a:stretch/>
        </p:blipFill>
        <p:spPr>
          <a:xfrm>
            <a:off x="6877080" y="4365720"/>
            <a:ext cx="21477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181080" y="1413000"/>
            <a:ext cx="28195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uropa – część świata (określana zwykle tradycyjnym, acz nieścisłym mianem kontynentu), leżąca na półkuli północnej, na pograniczu półkuli wschodniej i zachodniej, stanowiąca wraz z Azją kontynent Eurazję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Plik:Europe satellite orthographic.jpg"/>
          <p:cNvPicPr/>
          <p:nvPr/>
        </p:nvPicPr>
        <p:blipFill>
          <a:blip r:embed="rId2"/>
          <a:stretch/>
        </p:blipFill>
        <p:spPr>
          <a:xfrm>
            <a:off x="2556000" y="2637000"/>
            <a:ext cx="4392360" cy="3562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Plik:Mont Blanc.JPG"/>
          <p:cNvPicPr/>
          <p:nvPr/>
        </p:nvPicPr>
        <p:blipFill>
          <a:blip r:embed="rId3"/>
          <a:stretch/>
        </p:blipFill>
        <p:spPr>
          <a:xfrm>
            <a:off x="7093080" y="2637000"/>
            <a:ext cx="1930320" cy="1655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Plik:Erinaceus europaeus (Marek Szczepanek).jpg"/>
          <p:cNvPicPr/>
          <p:nvPr/>
        </p:nvPicPr>
        <p:blipFill>
          <a:blip r:embed="rId4"/>
          <a:stretch/>
        </p:blipFill>
        <p:spPr>
          <a:xfrm>
            <a:off x="7093080" y="4508640"/>
            <a:ext cx="194292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260208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ustralia (Związek Australijski, Commonwealth of Australia) – państwo położone na półkuli południowej, obejmujące najmniejszy kontynent świata, wyspę Tasmanię i inne znacznie mniejsze wyspy na Oceanie Indyjskim i Spokojny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Plik:Australia satellite plane.jpg"/>
          <p:cNvPicPr/>
          <p:nvPr/>
        </p:nvPicPr>
        <p:blipFill>
          <a:blip r:embed="rId2"/>
          <a:stretch/>
        </p:blipFill>
        <p:spPr>
          <a:xfrm>
            <a:off x="2700360" y="2781360"/>
            <a:ext cx="4351320" cy="3581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Plik:Macropus rufus.jpg"/>
          <p:cNvPicPr/>
          <p:nvPr/>
        </p:nvPicPr>
        <p:blipFill>
          <a:blip r:embed="rId3"/>
          <a:stretch/>
        </p:blipFill>
        <p:spPr>
          <a:xfrm>
            <a:off x="7236000" y="2781360"/>
            <a:ext cx="1728720" cy="1655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Plik:Sydney opera house and skyline.jpg"/>
          <p:cNvPicPr/>
          <p:nvPr/>
        </p:nvPicPr>
        <p:blipFill>
          <a:blip r:embed="rId4"/>
          <a:stretch/>
        </p:blipFill>
        <p:spPr>
          <a:xfrm>
            <a:off x="7236000" y="4724280"/>
            <a:ext cx="178740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z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700360" y="2637000"/>
            <a:ext cx="4103640" cy="3889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27464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zja (gr. Ἀσία Asía, łac. Asia) – część świata, razem z Europą tworząca Eurazję, największy kontynent na Ziemi. Z powodów historycznych i kulturowych sama Azja bywa również nazywana kontynentem (zob. alternatywne listy kontynentów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Panda wielka (Ocean Park, Hongkong)"/>
          <p:cNvPicPr/>
          <p:nvPr/>
        </p:nvPicPr>
        <p:blipFill>
          <a:blip r:embed="rId3"/>
          <a:stretch/>
        </p:blipFill>
        <p:spPr>
          <a:xfrm>
            <a:off x="6948360" y="2637000"/>
            <a:ext cx="2070360" cy="1800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948360" y="4581360"/>
            <a:ext cx="207972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meryka Południo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3860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meryka Południowa – kontynent leżący na półkuli zachodniej oraz w większej części na półkuli południowej, a w mniejszej – na półkuli północnej. Niekiedy uważana jest również za subkontynent Amery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492360" y="1773360"/>
            <a:ext cx="3313080" cy="4680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948360" y="1773360"/>
            <a:ext cx="2095560" cy="216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948360" y="4221000"/>
            <a:ext cx="21164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meryka Północ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7640" y="1197000"/>
            <a:ext cx="260172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meryka Północna – kontynent o powierzchni 24 242 000 km² (co stanowi 16,3% całkowitej powierzchni lądów na kuli ziemskiej), położony na półkulach: północnej i zachodniej. Do Ameryki Północnej należy Ameryka Środkow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771640" y="2205000"/>
            <a:ext cx="4145040" cy="4464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020000" y="2205000"/>
            <a:ext cx="2006640" cy="201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7020000" y="4508640"/>
            <a:ext cx="20048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ntarkty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2448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ntarktyda – kontynent o powierzchni około 14,0 mln km², znajdujący się na półkuli południowej Ziemi, prawie w całości w strefie podbiegunowej. Większa część kontynentu pokryta jest polarną czapą lodową, jest on praktycznie niezamieszkany przez ludzi, nie licząc personelu 37 stacji badawczy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700360" y="2276640"/>
            <a:ext cx="4248000" cy="4036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020000" y="2421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7020000" y="4508640"/>
            <a:ext cx="20160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16:04:46Z</dcterms:created>
  <dc:creator>MICRON</dc:creator>
  <dc:description/>
  <dc:language>en-US</dc:language>
  <cp:lastModifiedBy>MICRON</cp:lastModifiedBy>
  <dcterms:modified xsi:type="dcterms:W3CDTF">2013-02-14T16:33:16Z</dcterms:modified>
  <cp:revision>2</cp:revision>
  <dc:subject/>
  <dc:title>Kontynenty i Oceany</dc:title>
</cp:coreProperties>
</file>